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9AF39-E286-49B9-B478-B2E91627A1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7ABFA-15E1-4BC8-8E8B-72F454C8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5535C-02B8-4353-A95C-0EBEE9AE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3C90A-392E-4857-9BFD-C7D962D935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63881-A11F-4CD4-935E-FC66B87C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95744-CDDB-42D3-9412-1958A49B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655C1-0037-4148-8433-4EB68539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2BC89-48DA-4207-A2C0-722C59EB8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34FA7-D29A-4B32-9056-6BA94453C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A4C92-5B41-4395-8DE4-789C870A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BD7FD-2E67-4592-9597-A0D040D1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8A434-CA40-447E-A5C2-03FAC3DC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A200-5787-4B75-B7A9-F03770E90F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第十一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产后并发症妇女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疼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证休息和睡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证营养摄入；及时补液防脱水；监测并纠正水电解质失衡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半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提供心理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病情观察和记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会阴部护理，保持外阴清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溶液冲洗外阴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后可温水坐浴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执行医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出现高热、疼痛、呕吐时按症状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产妇了解产褥感染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休息、饮食、活动、服药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识别自身及新生儿异常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随访、检查相关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971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 产后心理障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心理障碍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沮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抑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6" name="图表 1" descr=""/>
          <p:cNvPicPr/>
          <p:nvPr/>
        </p:nvPicPr>
        <p:blipFill>
          <a:blip r:embed="rId1"/>
          <a:stretch/>
        </p:blipFill>
        <p:spPr>
          <a:xfrm>
            <a:off x="291960" y="1316160"/>
            <a:ext cx="865044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沮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情绪不稳定，易哭，感觉焦虑、疲劳、失眠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出现，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为高峰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抑郁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多在两周内出现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明显，持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至今无统一诊断标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41" name="图片 1" descr="6BC93707-4BF0-4C7A-BD80-D389D33FDB56.png"/>
          <p:cNvPicPr/>
          <p:nvPr/>
        </p:nvPicPr>
        <p:blipFill>
          <a:blip r:embed="rId1"/>
          <a:stretch/>
        </p:blipFill>
        <p:spPr>
          <a:xfrm>
            <a:off x="228600" y="1197000"/>
            <a:ext cx="891540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爱丁堡产后抑郁量表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dinburgh postnatal depression scal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PD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抑郁筛查量表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ostpartum depression screening scal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DS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68436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一节  产褥感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46" name="图片 1" descr="461AF471-A08C-412F-A5F6-63134BB0C655.pn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4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与疾病相关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心理社会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病情，识别诱因，缓解压力，对症处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避免刺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指导和护理，重者药物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定期家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对无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暴力行为的危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倾听问题，给予心理疏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帮助产妇适应母亲角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不良个性产妇给予心理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警惕伤害性行为，注意保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重症患者在医师指导下给予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健康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产妇重视和帮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出院指导和随访工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4"/>
          <p:cNvSpPr txBox="1"/>
          <p:nvPr/>
        </p:nvSpPr>
        <p:spPr>
          <a:xfrm>
            <a:off x="3419640" y="3141720"/>
            <a:ext cx="2900160" cy="10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黑体"/>
              </a:rPr>
              <a:t>谢谢！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感染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内生殖道受病原体侵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局部和全身的炎性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病率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以后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每日间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口表测量体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8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1" name="图表 1" descr=""/>
          <p:cNvPicPr/>
          <p:nvPr/>
        </p:nvPicPr>
        <p:blipFill>
          <a:blip r:embed="rId1"/>
          <a:stretch/>
        </p:blipFill>
        <p:spPr>
          <a:xfrm>
            <a:off x="317520" y="1292400"/>
            <a:ext cx="862488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发热、疼痛、异常恶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产褥感染三大主要症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部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0920" y="1773360"/>
          <a:ext cx="8569080" cy="4659120"/>
        </p:xfrm>
        <a:graphic>
          <a:graphicData uri="http://schemas.openxmlformats.org/drawingml/2006/table">
            <a:tbl>
              <a:tblPr/>
              <a:tblGrid>
                <a:gridCol w="2232000"/>
                <a:gridCol w="633708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外阴伤口感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会阴裂伤或会阴切开部感染，葡萄球菌和大肠埃希菌感染为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1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阴道、宫颈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黏膜充血、水肿、溃疡、分泌物增多，呈脓性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子宫内膜炎、子宫肌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恶露量多，浑浊有臭味；宫底部压痛；全身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盆腔结缔组织炎、急性输卵管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局部感染扩散累及盆腔结缔组织和输卵管；“冰冻骨盆”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盆腔腹膜炎及弥漫性腹膜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严重全身中毒症状：高热、恶心、呕吐、腹胀；下腹压痛、反跳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17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血栓性静脉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局部静脉压痛、硬索状；“股白肿”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1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脓毒血症及败血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休克症状，可危及生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部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妇科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验室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与疾病相关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产褥感染诱发因素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积极控制感染并纠正全身状况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支持疗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除感染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抗生素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辅助药物运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积极进行抢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8:45:24Z</dcterms:modified>
  <cp:revision>5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